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7C2-7800-440C-AB82-291414DC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E60-7F82-4A4A-811E-EEFB49B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82B-C551-40D1-8DD8-DABF7EE2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CB6-B730-4449-862A-9CE40392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DDC-ABEF-4ED1-BA82-CFD6564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C22-2185-4166-8A89-FC0DB73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F12-9EBF-45AC-BD76-8743F24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24C-554A-421E-8F1C-E681E2E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02C-564A-42BB-952E-721EB4E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C78-24EA-4928-80CD-38C6511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95B-682C-4A18-9E32-86F218D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BF4-BCD8-46AB-ADE1-765AFC0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844F-D693-4D1A-A80D-9DC7B8B5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Blackadder ITC"/>
              </a:rPr>
              <a:t>Las Comid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Por: Maggie Pari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00800" y="12193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Gu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86400" y="3505320"/>
            <a:ext cx="2181240" cy="209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 revueltos con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571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 bebo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alada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ra El Almuerzo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2743200" cy="20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1914480" cy="23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3886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bebo 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00800" y="4038480"/>
            <a:ext cx="1981080" cy="23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0060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Un zanaj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r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a Meriend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2571840" cy="178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47960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2468520" cy="308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105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bebo 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heez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990720" y="3581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radley Hand ITC"/>
              </a:rPr>
              <a:t>Para La Cen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292428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274320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9880" y="4114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Yo bebo 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4191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El 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pescado</a:t>
            </a: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 con judias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95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El pollo a la parmesana con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895480" y="4800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17960" y="552780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s judias ver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Bodoni MT Condensed"/>
              </a:rPr>
              <a:t>Para El Postr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Bodoni MT Condensed"/>
              </a:rPr>
              <a:t>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1743120" cy="2629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75256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248520" y="2895480"/>
            <a:ext cx="2628720" cy="1743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648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Las galletas con chispas de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876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La chocolate 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21932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Bodoni MT Black"/>
              </a:rPr>
              <a:t>El             Fi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01Z</dcterms:created>
  <dc:creator>parisimag</dc:creator>
  <dc:description/>
  <dc:language>en-US</dc:language>
  <cp:lastModifiedBy>parisimag</cp:lastModifiedBy>
  <dcterms:modified xsi:type="dcterms:W3CDTF">2012-04-05T17:14:54Z</dcterms:modified>
  <cp:revision>4</cp:revision>
  <dc:subject/>
  <dc:title>Las Comidas</dc:title>
</cp:coreProperties>
</file>